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DA1C-1518-4BD9-9952-F3385C02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0D1B-E64B-42C4-996D-95AEEBB5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CB74-AB74-4FDA-9576-E6BF3495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857C-870B-4B6B-B42B-D9FE6EF9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8EFF-3E16-4A34-9701-D619BADF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FE44-5A20-46B5-B5B0-1B9765A3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AEA3-0E72-4DC1-B263-93E7AF38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B61C-DA30-42C7-A25D-454C4114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C45A-14F5-438F-9FD7-0298A1BE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F234-9B56-4386-8C66-AF39153A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4F6C-54D6-4258-B7C3-F0BC557D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AA9A-24F7-4AE0-A0AC-07E4B931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CB02-D4EF-442F-8190-5B703F1E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EEA2-A7FD-408C-903B-5E20C812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83E3-FA11-4A72-8536-9B74BEC0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5C17-21DA-41CB-B364-121F232B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3F7F-DACB-408E-8E20-C800072B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68C7F-E723-4752-8FB6-153058FA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EF1E8-7FF3-4D17-8D85-98E8CDA3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1C528-3FB3-4974-A2A0-819C73E9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836AE-AA92-4769-8F36-0B8246A8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DADFD-48E8-4C3C-95A5-BB6B740B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CD7A-668C-4007-B438-E6ED1780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424ED-66BA-46DA-B78A-00E20305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3BEC3-C311-4B78-84D0-5A8EB9BF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6438D-6F3F-4EED-A737-D36F2027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41D8F-4E4E-4D14-B594-52AF42CB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BB1DA-357C-44F4-903A-DEB363FD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178F9-A7D5-41EA-AC27-C7191A08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A7D91-78B6-47C3-B86E-1AF4BAD12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BFA57-9587-47C0-B775-D3B009A0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71E9C-0963-4614-BC13-08467B5F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B3C38-270D-4854-942A-12850E8D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182D-9F9D-4A83-8EBB-3AD4F0BD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263CF-FA8C-4777-B891-B55421AF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EBAFE-7D15-4CC2-8A89-AB9124FE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DD9A3-02E2-4347-B52A-44932F58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162B6-BE83-4EE8-BF49-F7651A0C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46B85-0282-4386-92E5-17B83AA3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527E3-CC5A-4E39-9C64-43A593AB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E51D5-8A88-4627-A7F4-00E6F842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E6E0A-6BCD-4302-9B15-62C07ABD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C77FE-D60C-4B8B-BFC8-88742FE9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9609-485E-4EDC-A9D5-D9215A84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7A7D-3E67-4A32-BEC6-D779BAE5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A00F-D674-42BC-8354-2D063D35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9770-D763-4440-BEA3-65031920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0160-520B-4E49-982E-68D35C69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A0CC-B815-4B24-BD31-3045C2222B7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ED01-3882-4ABC-849F-B6291CD99F2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64AC-01BE-4EFE-A0AB-B2D7F6144DC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BBD5-8D9C-4B0D-A7E0-2324DF4B41E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179280" y="5877000"/>
            <a:ext cx="8785440" cy="8254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179280" y="5900760"/>
            <a:ext cx="8785440" cy="825480"/>
          </a:xfrm>
          <a:prstGeom prst="rect">
            <a:avLst/>
          </a:prstGeom>
          <a:ln w="0">
            <a:noFill/>
          </a:ln>
        </p:spPr>
      </p:pic>
      <p:sp>
        <p:nvSpPr>
          <p:cNvPr id="204" name="Conector reto 7"/>
          <p:cNvSpPr/>
          <p:nvPr/>
        </p:nvSpPr>
        <p:spPr>
          <a:xfrm>
            <a:off x="324000" y="1052640"/>
            <a:ext cx="7199280" cy="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Imagem 8" descr="Descrição: cid:image003.png@01CF229A.FEDE6750"/>
          <p:cNvPicPr/>
          <p:nvPr/>
        </p:nvPicPr>
        <p:blipFill>
          <a:blip r:embed="rId3"/>
          <a:stretch/>
        </p:blipFill>
        <p:spPr>
          <a:xfrm>
            <a:off x="7740720" y="189000"/>
            <a:ext cx="1224000" cy="12031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179280" y="5900760"/>
            <a:ext cx="8785440" cy="8254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24000" y="3357360"/>
            <a:ext cx="8496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f497d"/>
                </a:solidFill>
                <a:latin typeface="Calibri"/>
              </a:rPr>
              <a:t>Proposta de Consulta Pública referente à RDC que dispõe sobre rotulagem de alergênicos em alimento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1640" y="5373360"/>
            <a:ext cx="43527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f497d"/>
                </a:solidFill>
                <a:latin typeface="Calibri"/>
              </a:rPr>
              <a:t>Brasília, 29 de maio de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Grupo 14"/>
          <p:cNvGrpSpPr/>
          <p:nvPr/>
        </p:nvGrpSpPr>
        <p:grpSpPr>
          <a:xfrm>
            <a:off x="179280" y="692280"/>
            <a:ext cx="8820360" cy="2214360"/>
            <a:chOff x="179280" y="692280"/>
            <a:chExt cx="8820360" cy="2214360"/>
          </a:xfrm>
        </p:grpSpPr>
        <p:pic>
          <p:nvPicPr>
            <p:cNvPr id="324" name="Picture 7" descr=""/>
            <p:cNvPicPr/>
            <p:nvPr/>
          </p:nvPicPr>
          <p:blipFill>
            <a:blip r:embed="rId1"/>
            <a:stretch/>
          </p:blipFill>
          <p:spPr>
            <a:xfrm>
              <a:off x="179280" y="692280"/>
              <a:ext cx="4431600" cy="22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8" descr=""/>
            <p:cNvPicPr/>
            <p:nvPr/>
          </p:nvPicPr>
          <p:blipFill>
            <a:blip r:embed="rId2"/>
            <a:stretch/>
          </p:blipFill>
          <p:spPr>
            <a:xfrm>
              <a:off x="4574160" y="692280"/>
              <a:ext cx="4425480" cy="2214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CaixaDeTexto 1"/>
          <p:cNvSpPr/>
          <p:nvPr/>
        </p:nvSpPr>
        <p:spPr>
          <a:xfrm>
            <a:off x="324000" y="476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f497d"/>
                </a:solidFill>
                <a:latin typeface="Calibri"/>
              </a:rPr>
              <a:t>Declaração de cereais com glú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Espaço Reservado para Conteúdo 2"/>
          <p:cNvSpPr/>
          <p:nvPr/>
        </p:nvSpPr>
        <p:spPr>
          <a:xfrm>
            <a:off x="395280" y="1484280"/>
            <a:ext cx="8353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§ 1º A declaração </a:t>
            </a:r>
            <a:r>
              <a:rPr b="1" lang="pt-BR" sz="2200" spc="-1" strike="noStrike" u="sng">
                <a:solidFill>
                  <a:srgbClr val="1f497d"/>
                </a:solidFill>
                <a:uFillTx/>
                <a:latin typeface="Calibri"/>
              </a:rPr>
              <a:t>“Não contém glúten” deve ser utilizada sempre que</a:t>
            </a: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I - o alimento não seja constituído de trigo, centeio, cevada, aveia e suas estirpes hibridizad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II - o alimento não seja derivado de trigo, centeio, cevada, aveia e suas estirpes hibridizad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III - o alimento não seja adicionado intencionalmente de ingredientes, aditivos alimentares, coadjuvantes de tecnologia ou matérias-primas derivadas de trigo, centeio, cevada, aveia e suas estirpes hibridizadas; 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IV - a quantidade de glúten no alimento tal como exposto a venda seja inferior </a:t>
            </a:r>
            <a:r>
              <a:rPr b="1" lang="pt-BR" sz="2200" spc="-1" strike="noStrike" u="sng">
                <a:solidFill>
                  <a:srgbClr val="1f497d"/>
                </a:solidFill>
                <a:uFillTx/>
                <a:latin typeface="Calibri"/>
              </a:rPr>
              <a:t>a 20 (vinte) ppm</a:t>
            </a: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CaixaDeTexto 1"/>
          <p:cNvSpPr/>
          <p:nvPr/>
        </p:nvSpPr>
        <p:spPr>
          <a:xfrm>
            <a:off x="324000" y="476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f497d"/>
                </a:solidFill>
                <a:latin typeface="Calibri"/>
              </a:rPr>
              <a:t>Declaração de cereais com glú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spaço Reservado para Conteúdo 2"/>
          <p:cNvSpPr/>
          <p:nvPr/>
        </p:nvSpPr>
        <p:spPr>
          <a:xfrm>
            <a:off x="395280" y="1484280"/>
            <a:ext cx="8353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§ 2º A declaração </a:t>
            </a:r>
            <a:r>
              <a:rPr b="1" lang="pt-BR" sz="2200" spc="-1" strike="noStrike" u="sng">
                <a:solidFill>
                  <a:srgbClr val="1f497d"/>
                </a:solidFill>
                <a:uFillTx/>
                <a:latin typeface="Calibri"/>
              </a:rPr>
              <a:t>“Contém glúten” deve ser utilizada sempre que os requisitos estabelecidos no § 1º deste artigo não sejam atendidos</a:t>
            </a:r>
            <a:r>
              <a:rPr b="0" lang="pt-BR" sz="2200" spc="-1" strike="noStrike" u="sng">
                <a:solidFill>
                  <a:srgbClr val="1f497d"/>
                </a:solidFill>
                <a:uFillTx/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1f497d"/>
                </a:solidFill>
                <a:uFillTx/>
                <a:latin typeface="Calibri"/>
              </a:rPr>
              <a:t>§ 3º Para os produtos destinados exclusivamente ao processamento industrial e ou aos serviços de alimentação, a informação sobre a presença ou ausência do glúten pode ser fornecida, alternativamente, nos documentos que acompanhem o produ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§ 4º O disposto neste artigo não se aplica aos alimentos para fins especiais para dietas com restrição de glúten, os quais devem atender à Portaria nº 29, de 13 de janeiro de 1998, que aprova o regulamento técnico referente a alimentos para fins especi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CaixaDeTexto 1"/>
          <p:cNvSpPr/>
          <p:nvPr/>
        </p:nvSpPr>
        <p:spPr>
          <a:xfrm>
            <a:off x="324000" y="476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f497d"/>
                </a:solidFill>
                <a:latin typeface="Calibri"/>
              </a:rPr>
              <a:t>Consider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spaço Reservado para Conteúdo 2"/>
          <p:cNvSpPr/>
          <p:nvPr/>
        </p:nvSpPr>
        <p:spPr>
          <a:xfrm>
            <a:off x="395280" y="1600200"/>
            <a:ext cx="849780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Regras diferenciadas em relação à declaração dos outros alergênicos em função da necessidade de alinhamento à Lei n. 10.674/2003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Desta forma, a proposta foca nos critérios de composição e legibilidade para uso das declarações previstas na Lei n. 10.674/2013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O limite proposto para o glúten (20 ppm) está baseado em estudos de segurança com celíacos e nas recomendações do </a:t>
            </a:r>
            <a:r>
              <a:rPr b="0" i="1" lang="pt-BR" sz="2200" spc="-1" strike="noStrike">
                <a:solidFill>
                  <a:srgbClr val="1f497d"/>
                </a:solidFill>
                <a:latin typeface="Calibri"/>
              </a:rPr>
              <a:t>Codex Alimentarius</a:t>
            </a: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A adoção de um limite permite separar objetivamente os produtos que contêm ou não essa proteína (expectativa que a quantidade de alimentos  com a declaração “não contém glúten” aument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CaixaDeTexto 1"/>
          <p:cNvSpPr/>
          <p:nvPr/>
        </p:nvSpPr>
        <p:spPr>
          <a:xfrm>
            <a:off x="324000" y="476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f497d"/>
                </a:solidFill>
                <a:latin typeface="Calibri"/>
              </a:rPr>
              <a:t>Declaração de outros alergê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ço Reservado para Conteúdo 2"/>
          <p:cNvSpPr/>
          <p:nvPr/>
        </p:nvSpPr>
        <p:spPr>
          <a:xfrm>
            <a:off x="395280" y="2421000"/>
            <a:ext cx="8353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Art. 7º Os alimentos que consistam, sejam derivados ou contenham adição intencional de ingredientes, aditivos alimentares, coadjuvantes de tecnologia ou matérias-primas derivados das fontes reconhecidas por causarem alergias ou intolerâncias alimentares descritas nos incisos II a XVI do art. 4º, independentemente da quantidade, devem trazer a declaração </a:t>
            </a:r>
            <a:r>
              <a:rPr b="1" lang="pt-BR" sz="2200" spc="-1" strike="noStrike" u="sng">
                <a:solidFill>
                  <a:srgbClr val="1f497d"/>
                </a:solidFill>
                <a:uFillTx/>
                <a:latin typeface="Calibri"/>
              </a:rPr>
              <a:t>“Alérgicos: Contém (nomes das fontes)” ou “Alérgicos: Contém derivados de (nomes das fontes)”, conforme o ca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CaixaDeTexto 1"/>
          <p:cNvSpPr/>
          <p:nvPr/>
        </p:nvSpPr>
        <p:spPr>
          <a:xfrm>
            <a:off x="324000" y="476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f497d"/>
                </a:solidFill>
                <a:latin typeface="Calibri"/>
              </a:rPr>
              <a:t>Declaração de outros alergê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ço Reservado para Conteúdo 2"/>
          <p:cNvSpPr/>
          <p:nvPr/>
        </p:nvSpPr>
        <p:spPr>
          <a:xfrm>
            <a:off x="395280" y="1484280"/>
            <a:ext cx="835344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§ 1º A declaração a que se refere o </a:t>
            </a:r>
            <a:r>
              <a:rPr b="1" lang="pt-BR" sz="2200" spc="-1" strike="noStrike">
                <a:solidFill>
                  <a:srgbClr val="1f497d"/>
                </a:solidFill>
                <a:latin typeface="Calibri"/>
              </a:rPr>
              <a:t>caput</a:t>
            </a: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 não é obrigatória para os casos em que a denominação de venda mencione claramente a fonte reconhecida por causar alergia com pelo menos o tamanho de letra estabelecido no Anexo desta Resolu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1f497d"/>
                </a:solidFill>
                <a:uFillTx/>
                <a:latin typeface="Calibri"/>
              </a:rPr>
              <a:t>§ 2º Para os produtos destinados exclusivamente ao processamento industrial ou aos serviços de alimentação, a informação pode ser alternativamente fornecida nos documentos que acompanhem o produto</a:t>
            </a: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§ 3º Os produtos derivados das fontes reconhecidas por causarem alergias ou intolerâncias alimentares podem ser dispensados da exigência da declaração de que trata o </a:t>
            </a:r>
            <a:r>
              <a:rPr b="1" lang="pt-BR" sz="2200" spc="-1" strike="noStrike">
                <a:solidFill>
                  <a:srgbClr val="1f497d"/>
                </a:solidFill>
                <a:latin typeface="Calibri"/>
              </a:rPr>
              <a:t>caput</a:t>
            </a: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, desde que comprovada a ausência de potencial alergên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CaixaDeTexto 1"/>
          <p:cNvSpPr/>
          <p:nvPr/>
        </p:nvSpPr>
        <p:spPr>
          <a:xfrm>
            <a:off x="324000" y="476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f497d"/>
                </a:solidFill>
                <a:latin typeface="Calibri"/>
              </a:rPr>
              <a:t>Declaração de outros alergê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Espaço Reservado para Conteúdo 2"/>
          <p:cNvSpPr/>
          <p:nvPr/>
        </p:nvSpPr>
        <p:spPr>
          <a:xfrm>
            <a:off x="395280" y="1484280"/>
            <a:ext cx="835344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§ 4º A comprovação de que trata o § 3º deste artigo deve ser solicitada mediante petição de exclusão de produtos da lista de fontes reconhecidas por causarem alergias ou intolerâncias alimentares, acompanhada da seguinte documentaçã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I - estudos clínicos duplo-cegos e placebo controlados de consumo que confirmem que o produto especificado não causa reações alérgicas em pacientes com alergia clínica à fonte alimentar; 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II - especificações do produto, laudos de análise laboratorial e descrição detalhada de seu processo de fabricação que atestem a consistência do seu controle de qualidade e seguranç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CaixaDeTexto 1"/>
          <p:cNvSpPr/>
          <p:nvPr/>
        </p:nvSpPr>
        <p:spPr>
          <a:xfrm>
            <a:off x="324000" y="476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f497d"/>
                </a:solidFill>
                <a:latin typeface="Calibri"/>
              </a:rPr>
              <a:t>Consider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ço Reservado para Conteúdo 2"/>
          <p:cNvSpPr/>
          <p:nvPr/>
        </p:nvSpPr>
        <p:spPr>
          <a:xfrm>
            <a:off x="395280" y="1484280"/>
            <a:ext cx="84978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Tópico de grande relevância e ausência de consen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Os estudos levantados pela GGALI sugerem que a declaração na forma de advertência seria mais efetiva para o consumid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Tal proposta também teria menor impacto por não exigir a modificação das regras para declaração da lista de ingredie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Avaliar a melhor forma de publicar a lista de ingredientes que não possuem potencial alergên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Avaliar a pertinência de proibir declarações de ausência de alergênicos (ex. sem leite, sem crustáceo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CaixaDeTexto 1"/>
          <p:cNvSpPr/>
          <p:nvPr/>
        </p:nvSpPr>
        <p:spPr>
          <a:xfrm>
            <a:off x="324000" y="47628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f497d"/>
                </a:solidFill>
                <a:latin typeface="Calibri"/>
              </a:rPr>
              <a:t>Declaração para contaminação cru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Espaço Reservado para Conteúdo 2"/>
          <p:cNvSpPr/>
          <p:nvPr/>
        </p:nvSpPr>
        <p:spPr>
          <a:xfrm>
            <a:off x="395280" y="2421000"/>
            <a:ext cx="8353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Art. 8º Nos casos em que os alimentos, ingredientes, aditivos alimentares, coadjuvantes de tecnologia ou matérias-primas tenham risco de contaminação incidental pelas fontes reconhecidas por causarem alergias ou intolerâncias alimentares </a:t>
            </a:r>
            <a:r>
              <a:rPr b="1" lang="pt-BR" sz="2200" spc="-1" strike="noStrike" u="sng">
                <a:solidFill>
                  <a:srgbClr val="1f497d"/>
                </a:solidFill>
                <a:uFillTx/>
                <a:latin typeface="Calibri"/>
              </a:rPr>
              <a:t>descritas nos incisos II a XV do art. 4º</a:t>
            </a: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, deve constar no rótulo a declaração </a:t>
            </a:r>
            <a:r>
              <a:rPr b="1" lang="pt-BR" sz="2200" spc="-1" strike="noStrike" u="sng">
                <a:solidFill>
                  <a:srgbClr val="1f497d"/>
                </a:solidFill>
                <a:uFillTx/>
                <a:latin typeface="Calibri"/>
              </a:rPr>
              <a:t>“Alérgicos: Pode conter (nomes das fontes)”</a:t>
            </a: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CaixaDeTexto 1"/>
          <p:cNvSpPr/>
          <p:nvPr/>
        </p:nvSpPr>
        <p:spPr>
          <a:xfrm>
            <a:off x="324000" y="476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f497d"/>
                </a:solidFill>
                <a:latin typeface="Calibri"/>
              </a:rPr>
              <a:t>Consider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ço Reservado para Conteúdo 2"/>
          <p:cNvSpPr/>
          <p:nvPr/>
        </p:nvSpPr>
        <p:spPr>
          <a:xfrm>
            <a:off x="395280" y="1484280"/>
            <a:ext cx="84978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Tema de maior complexidade técnica e científica na propos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Com exceção do glúten e do sulfito, não existem limites estabelecidos para os outros alergênicos devido às limitações científic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A característica da cadeia de produção de alimentos torna possível a ocorrência de contaminação cruzada em diferentes etap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Internacionalmente, o tema não é regulamentado de forma clara, sendo tratado pela maioria dos países como informação voluntá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Os estudos analisados demonstram que os consumidores de outros países acham este tipo de informação confusa e pouco confiáv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CaixaDeTexto 1"/>
          <p:cNvSpPr/>
          <p:nvPr/>
        </p:nvSpPr>
        <p:spPr>
          <a:xfrm>
            <a:off x="324000" y="476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f497d"/>
                </a:solidFill>
                <a:latin typeface="Calibri"/>
              </a:rPr>
              <a:t>Consider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ço Reservado para Conteúdo 2"/>
          <p:cNvSpPr/>
          <p:nvPr/>
        </p:nvSpPr>
        <p:spPr>
          <a:xfrm>
            <a:off x="395280" y="1484280"/>
            <a:ext cx="84978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Os atores ouvidos foram favoráveis à regulamentação desse tipo de declaração em virtude de sua relevância para informar os consumidores com alergias alimentares sobre os riscos dos produ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Foi ponderado que esta proposta obrigaria o consumidor a gerenciar o risco por meio de informações imprecisas. Não se conhece o impacto desta informação nas atitudes do consumidor brasilei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Essa medida pode resultar no crescimento do uso dessas declarações em substituição à adoção de práticas de manejo de alergênicos ou como medida de proteção judicial por parte do setor produtiv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CaixaDeTexto 1"/>
          <p:cNvSpPr/>
          <p:nvPr/>
        </p:nvSpPr>
        <p:spPr>
          <a:xfrm>
            <a:off x="324000" y="476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f497d"/>
                </a:solidFill>
                <a:latin typeface="Calibri"/>
              </a:rPr>
              <a:t>Âmbito de aplic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spaço Reservado para Conteúdo 2"/>
          <p:cNvSpPr/>
          <p:nvPr/>
        </p:nvSpPr>
        <p:spPr>
          <a:xfrm>
            <a:off x="395280" y="1600200"/>
            <a:ext cx="8353440" cy="42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Art. 1º Fica aprovado o Regulamento Técnico que estabelece os requisitos para a declaração obrigatória, na rotulagem de alimentos embalados, das fontes reconhecidas por causarem alergias ou intolerâncias alimentares em pessoas sensíveis, nos termos desta Resolu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Art. 2º Esta Resolução se aplica aos alimentos, ingredientes, aditivos alimentares, coadjuvantes de tecnologia e matérias-primas </a:t>
            </a:r>
            <a:r>
              <a:rPr b="1" lang="pt-BR" sz="2200" spc="-1" strike="noStrike" u="sng">
                <a:solidFill>
                  <a:srgbClr val="1f497d"/>
                </a:solidFill>
                <a:uFillTx/>
                <a:latin typeface="Calibri"/>
              </a:rPr>
              <a:t>embalados na ausência dos consumidores, inclusive aqueles destinados exclusivamente ao processamento industrial e os destinados aos serviços de alimentação</a:t>
            </a: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CaixaDeTexto 1"/>
          <p:cNvSpPr/>
          <p:nvPr/>
        </p:nvSpPr>
        <p:spPr>
          <a:xfrm>
            <a:off x="324000" y="476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f497d"/>
                </a:solidFill>
                <a:latin typeface="Calibri"/>
              </a:rPr>
              <a:t>Consider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Espaço Reservado para Conteúdo 2"/>
          <p:cNvSpPr/>
          <p:nvPr/>
        </p:nvSpPr>
        <p:spPr>
          <a:xfrm>
            <a:off x="395280" y="1484280"/>
            <a:ext cx="84978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Também foi apontada a possibilidade de diminuição do número de alim</a:t>
            </a:r>
            <a:r>
              <a:rPr b="0" lang="pt-BR" sz="2200" spc="-1" strike="noStrike">
                <a:solidFill>
                  <a:srgbClr val="002060"/>
                </a:solidFill>
                <a:latin typeface="Calibri"/>
              </a:rPr>
              <a:t>ento</a:t>
            </a: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s sem declaração de alergênicos, o que pode restringir o acesso de indivíduos com alergia a aliment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Avaliar pertinência de regulamentar explicitamente o tema (ex. permitir e estabelecer critérios para o uso dessas alegações, permitir de forma temporária até finalização de outras medidas regulatórias, proibir o uso dessas alegações) ou não tratar do tema na regulamentação (ex. adotar outras medidas regulatórias, observar o comportamento do mercado, estudar a eficácia dessas declarações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CaixaDeTexto 1"/>
          <p:cNvSpPr/>
          <p:nvPr/>
        </p:nvSpPr>
        <p:spPr>
          <a:xfrm>
            <a:off x="324000" y="476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f497d"/>
                </a:solidFill>
                <a:latin typeface="Calibri"/>
              </a:rPr>
              <a:t>Regras de legibil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Espaço Reservado para Conteúdo 2"/>
          <p:cNvSpPr/>
          <p:nvPr/>
        </p:nvSpPr>
        <p:spPr>
          <a:xfrm>
            <a:off x="395280" y="1844640"/>
            <a:ext cx="83534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Art. 9º </a:t>
            </a:r>
            <a:r>
              <a:rPr b="1" lang="pt-BR" sz="2200" spc="-1" strike="noStrike" u="sng">
                <a:solidFill>
                  <a:srgbClr val="1f497d"/>
                </a:solidFill>
                <a:uFillTx/>
                <a:latin typeface="Calibri"/>
              </a:rPr>
              <a:t>As declarações </a:t>
            </a: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exigidas nos artigos 6º, 7º e 8º desta Resolução </a:t>
            </a:r>
            <a:r>
              <a:rPr b="1" lang="pt-BR" sz="2200" spc="-1" strike="noStrike" u="sng">
                <a:solidFill>
                  <a:srgbClr val="1f497d"/>
                </a:solidFill>
                <a:uFillTx/>
                <a:latin typeface="Calibri"/>
              </a:rPr>
              <a:t>devem estar agrupadas próximas à lista de ingredientes da rotulagem, em moldura de fundo branco e com caracteres de mesmo tipo e cor preta que atendam aos requisitos de altura estabelecidos no Anexo </a:t>
            </a: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desta Resolu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Parágrafo único. As declarações a que se refere o caput não podem estar dispostas em locais de difícil visualização, encobertos ou removíveis pelo lacre de abertura, como áreas de selagem e de tor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CaixaDeTexto 1"/>
          <p:cNvSpPr/>
          <p:nvPr/>
        </p:nvSpPr>
        <p:spPr>
          <a:xfrm>
            <a:off x="324000" y="476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f497d"/>
                </a:solidFill>
                <a:latin typeface="Calibri"/>
              </a:rPr>
              <a:t>Regras de legibil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Espaço Reservado para Conteúdo 2"/>
          <p:cNvSpPr/>
          <p:nvPr/>
        </p:nvSpPr>
        <p:spPr>
          <a:xfrm>
            <a:off x="395280" y="1557360"/>
            <a:ext cx="8353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Anex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Altura mínima dos caracteres para indicação da presença de substância que causam alergia ou intolerância aliment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68360" y="3213000"/>
          <a:ext cx="8137440" cy="2584440"/>
        </p:xfrm>
        <a:graphic>
          <a:graphicData uri="http://schemas.openxmlformats.org/drawingml/2006/table">
            <a:tbl>
              <a:tblPr/>
              <a:tblGrid>
                <a:gridCol w="4068720"/>
                <a:gridCol w="4068720"/>
              </a:tblGrid>
              <a:tr h="4302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Área da vista principal (cm</a:t>
                      </a:r>
                      <a:r>
                        <a:rPr b="1" lang="pt-BR" sz="1800" spc="-1" strike="noStrike" baseline="30000">
                          <a:solidFill>
                            <a:srgbClr val="002060"/>
                          </a:solidFill>
                          <a:latin typeface="Calibri"/>
                        </a:rPr>
                        <a:t>2</a:t>
                      </a:r>
                      <a:r>
                        <a:rPr b="1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ltura mínima dos caracteres (m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Menor que 40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Maior ou igual a 40 e menor que 170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Maior ou igual a 170 e menor que 650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Maior ou igual a 650 e menor que 2600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Maior ou igual a 2600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CaixaDeTexto 1"/>
          <p:cNvSpPr/>
          <p:nvPr/>
        </p:nvSpPr>
        <p:spPr>
          <a:xfrm>
            <a:off x="324000" y="476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f497d"/>
                </a:solidFill>
                <a:latin typeface="Calibri"/>
              </a:rPr>
              <a:t>Consider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ço Reservado para Conteúdo 2"/>
          <p:cNvSpPr/>
          <p:nvPr/>
        </p:nvSpPr>
        <p:spPr>
          <a:xfrm>
            <a:off x="395280" y="1484280"/>
            <a:ext cx="84978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Tema de maior conflito na propos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Com base nos estudos avaliados, a GGALI havia proposto que as declarações fossem veiculadas no painel princip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Devido ao tamanho das advertências exigidas, foi discutida a possibilidade de exigir a advertência em outro painel desde que com requisitos pré-definidos de legibilida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A proposta de tamanho de letra foi baseada na regulamentação do Inmetro para declaração do conteúdo líqui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Avaliar alternativas existentes (lista de ingredientes, advertências, símbolo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CaixaDeTexto 1"/>
          <p:cNvSpPr/>
          <p:nvPr/>
        </p:nvSpPr>
        <p:spPr>
          <a:xfrm>
            <a:off x="324000" y="476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f497d"/>
                </a:solidFill>
                <a:latin typeface="Calibri"/>
              </a:rPr>
              <a:t>Prazo para adequ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Espaço Reservado para Conteúdo 2"/>
          <p:cNvSpPr/>
          <p:nvPr/>
        </p:nvSpPr>
        <p:spPr>
          <a:xfrm>
            <a:off x="395280" y="2060640"/>
            <a:ext cx="83534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Art. 11. Os estabelecimentos abrangidos por esta Resolução terão o </a:t>
            </a:r>
            <a:r>
              <a:rPr b="1" lang="pt-BR" sz="2200" spc="-1" strike="noStrike" u="sng">
                <a:solidFill>
                  <a:srgbClr val="1f497d"/>
                </a:solidFill>
                <a:uFillTx/>
                <a:latin typeface="Calibri"/>
              </a:rPr>
              <a:t>prazo de 12 (doze) meses </a:t>
            </a: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contados a partir da data de sua publicação para promover as adequações necessárias nos produtos que se enquadrem naqueles relacionados no art. 2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Parágrafo único. Os produtos fabricados até o final do prazo de adequação a que se refere o caput podem ser comercializados até o fim de seu prazo de valida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CaixaDeTexto 1"/>
          <p:cNvSpPr/>
          <p:nvPr/>
        </p:nvSpPr>
        <p:spPr>
          <a:xfrm>
            <a:off x="324000" y="476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f497d"/>
                </a:solidFill>
                <a:latin typeface="Calibri"/>
              </a:rPr>
              <a:t>Consider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ço Reservado para Conteúdo 2"/>
          <p:cNvSpPr/>
          <p:nvPr/>
        </p:nvSpPr>
        <p:spPr>
          <a:xfrm>
            <a:off x="395280" y="1989000"/>
            <a:ext cx="849780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O prazo sugerido foi estabelecido com base na percepção inicial dos representantes de laboratórios públicos sobre o tempo necessário para incorporação das metodologias analíticas para detecção da presença de alergênic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Os representantes do setor produtivo informaram que seria necessário um prazo maior para adequação e foram instruídos a apresentar as justificativas pertinentes e as estimativas de custo que diferentes prazos teriam sobre a reformulação da rotulag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CaixaDeTexto 1"/>
          <p:cNvSpPr/>
          <p:nvPr/>
        </p:nvSpPr>
        <p:spPr>
          <a:xfrm>
            <a:off x="324000" y="476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f497d"/>
                </a:solidFill>
                <a:latin typeface="Calibri"/>
              </a:rPr>
              <a:t>Âmbito de aplic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ço Reservado para Conteúdo 2"/>
          <p:cNvSpPr/>
          <p:nvPr/>
        </p:nvSpPr>
        <p:spPr>
          <a:xfrm>
            <a:off x="395280" y="1484280"/>
            <a:ext cx="8353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§ 1º Este regulamento se aplica de maneira complementar à Resolução RDC nº 259, de 20 de setembro de 2002, que aprova o regulamento técnico para rotulagem de alimentos embalados, e à Lei nº 10.674, de 16 de maio de 2003, que estabelece a obrigatoriedade de informação sobre a presença de glúten em produtos alimentícios comercializ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1f497d"/>
                </a:solidFill>
                <a:uFillTx/>
                <a:latin typeface="Calibri"/>
              </a:rPr>
              <a:t>§ 2º Este regulamento não se aplica aos seguintes produt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I - alimentos embalados que sejam preparados ou fracionados em serviços de alimentação e comercializados no próprio estabeleciment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II - alimentos embalados nos pontos de venda na presença do consumido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III - alimentos comercializados sem embalag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CaixaDeTexto 1"/>
          <p:cNvSpPr/>
          <p:nvPr/>
        </p:nvSpPr>
        <p:spPr>
          <a:xfrm>
            <a:off x="324000" y="476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f497d"/>
                </a:solidFill>
                <a:latin typeface="Calibri"/>
              </a:rPr>
              <a:t>Consider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Espaço Reservado para Conteúdo 2"/>
          <p:cNvSpPr/>
          <p:nvPr/>
        </p:nvSpPr>
        <p:spPr>
          <a:xfrm>
            <a:off x="395280" y="1600200"/>
            <a:ext cx="849780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Proposta alinhada ao escopo da RDC n. 259/2002, que trata do regulamento técnico sobre rotulagem de alimentos embal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Garante aos consumidores acesso a informações essenciais para proteção da sua saúde e permite que os fabricantes tenham acesso a informações sobre a presença de alergênicos em ingredientes e matérias-pri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Outras ações regulatórias são necessárias (orientações sobre manejo de alergênicos, revisão das regras de alimentos para fins especiais, regras para fornecimento de informação nos serviços de alimentaçã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Avaliar melhor forma de conduzir essas ações regulatóri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CaixaDeTexto 1"/>
          <p:cNvSpPr/>
          <p:nvPr/>
        </p:nvSpPr>
        <p:spPr>
          <a:xfrm>
            <a:off x="324000" y="476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f497d"/>
                </a:solidFill>
                <a:latin typeface="Calibri"/>
              </a:rPr>
              <a:t>Lista de alergê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Espaço Reservado para Conteúdo 2"/>
          <p:cNvSpPr/>
          <p:nvPr/>
        </p:nvSpPr>
        <p:spPr>
          <a:xfrm>
            <a:off x="395280" y="1484280"/>
            <a:ext cx="8353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Art. 4º As seguintes fontes são reconhecidas por causarem alergias ou intolerâncias alimentares em pessoas sensíve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I - cereais que contêm glúten, nomeadamente trigo, centeio, cevada, aveia e suas estirpes hibridizad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II - crustáceo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III - ovo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IV - peix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V - amendoim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CaixaDeTexto 1"/>
          <p:cNvSpPr/>
          <p:nvPr/>
        </p:nvSpPr>
        <p:spPr>
          <a:xfrm>
            <a:off x="324000" y="476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f497d"/>
                </a:solidFill>
                <a:latin typeface="Calibri"/>
              </a:rPr>
              <a:t>Lista de alergê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ço Reservado para Conteúdo 2"/>
          <p:cNvSpPr/>
          <p:nvPr/>
        </p:nvSpPr>
        <p:spPr>
          <a:xfrm>
            <a:off x="395280" y="1700280"/>
            <a:ext cx="8353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VI - soj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VII - leit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VIII a XV - castanhas (amêndoa , avelã, castanha de caju, castanha do Brasil, macadâmia, noz, pecã, pistache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XVI - sulfitos (dióxido de enxofre e seus sais) em concentração igual ou superior a 10 (dez) partes por milhão (ppm), expresso em dióxido de enxof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CaixaDeTexto 1"/>
          <p:cNvSpPr/>
          <p:nvPr/>
        </p:nvSpPr>
        <p:spPr>
          <a:xfrm>
            <a:off x="324000" y="476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f497d"/>
                </a:solidFill>
                <a:latin typeface="Calibri"/>
              </a:rPr>
              <a:t>Lista de alergê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spaço Reservado para Conteúdo 2"/>
          <p:cNvSpPr/>
          <p:nvPr/>
        </p:nvSpPr>
        <p:spPr>
          <a:xfrm>
            <a:off x="395280" y="2060640"/>
            <a:ext cx="835344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Art. 5º As alterações na lista de fontes reconhecidas por causarem alergias ou intolerâncias alimentares podem ser realizadas median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I - atualização das normas do Codex Alimentarius; 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II - evidências científicas que demonstrem a relação de causa-efeito entre o consumo do alimento e o aparecimento de efeitos adversos, sua magnitude epidemiológica e sua severida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CaixaDeTexto 1"/>
          <p:cNvSpPr/>
          <p:nvPr/>
        </p:nvSpPr>
        <p:spPr>
          <a:xfrm>
            <a:off x="324000" y="476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f497d"/>
                </a:solidFill>
                <a:latin typeface="Calibri"/>
              </a:rPr>
              <a:t>Consider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spaço Reservado para Conteúdo 2"/>
          <p:cNvSpPr/>
          <p:nvPr/>
        </p:nvSpPr>
        <p:spPr>
          <a:xfrm>
            <a:off x="395280" y="1484280"/>
            <a:ext cx="84978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Em virtude da ausência de evidências científicas sobre os principais alergênicos que afetam a população brasileira, foi utilizada como referência a lista de alergênicos do </a:t>
            </a:r>
            <a:r>
              <a:rPr b="0" i="1" lang="pt-BR" sz="2200" spc="-1" strike="noStrike">
                <a:solidFill>
                  <a:srgbClr val="1f497d"/>
                </a:solidFill>
                <a:latin typeface="Calibri"/>
              </a:rPr>
              <a:t>Codex Alimentarius</a:t>
            </a: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Avaliar a pertinência de incluir o látex em decorrência do Despacho de Iniciativa n. 17/2014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Critérios para alteração da lista de alergênicos foram sugeridos em função do reconhecimento e do estudo de novos alergênicos em outros paí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Avaliar melhor forma de publicar a lista de fontes alergênicas devido à possibilidade de atualiz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CaixaDeTexto 1"/>
          <p:cNvSpPr/>
          <p:nvPr/>
        </p:nvSpPr>
        <p:spPr>
          <a:xfrm>
            <a:off x="324000" y="476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1f497d"/>
                </a:solidFill>
                <a:latin typeface="Calibri"/>
              </a:rPr>
              <a:t>Declaração de cereais com glú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Espaço Reservado para Conteúdo 2"/>
          <p:cNvSpPr/>
          <p:nvPr/>
        </p:nvSpPr>
        <p:spPr>
          <a:xfrm>
            <a:off x="395280" y="2492280"/>
            <a:ext cx="83534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1f497d"/>
                </a:solidFill>
                <a:latin typeface="Calibri"/>
              </a:rPr>
              <a:t>Art. 6º Os alimentos, ingredientes, aditivos alimentares, coadjuvantes de tecnologia e matérias-primas embalados na ausência dos consumidores, inclusive aqueles empregados na sua produção e os destinados aos serviços de alimentação, devem conter a declaração </a:t>
            </a:r>
            <a:r>
              <a:rPr b="1" lang="pt-BR" sz="2200" spc="-1" strike="noStrike" u="sng">
                <a:solidFill>
                  <a:srgbClr val="1f497d"/>
                </a:solidFill>
                <a:uFillTx/>
                <a:latin typeface="Calibri"/>
              </a:rPr>
              <a:t>“Contém glúten” ou “Não contém glúten”, conforme o ca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01:04:38Z</dcterms:created>
  <dc:creator>User</dc:creator>
  <dc:description/>
  <dc:language>en-US</dc:language>
  <cp:lastModifiedBy>Lilian Regina Barbosa de Macedo</cp:lastModifiedBy>
  <dcterms:modified xsi:type="dcterms:W3CDTF">2014-05-29T20:15:14Z</dcterms:modified>
  <cp:revision>469</cp:revision>
  <dc:subject/>
  <dc:title>Apresentação do PowerPoint</dc:title>
</cp:coreProperties>
</file>